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04C-B6D6-44A1-9BC5-B08EF64D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CF4-C52A-4825-8327-DB3E53A1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C09-07F5-41F6-9DE2-AC042191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2A8-8BB8-4E44-8FF3-52205060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79CE-C90D-4433-AAD0-2536FB1E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45C-7D54-4A76-8343-C6E7E79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05FB-81C7-4CD0-9D19-2DFB451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D98-9829-44E1-BF5A-DB977E34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9744-983C-4061-9B20-9011552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93F3-E529-406A-B4D5-5A310BA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544-9548-4DFC-84E0-FA7C7B2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3F7-8E2D-49C8-B72A-64F58F0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3810-A394-4898-9210-2845032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8D23-8D4E-475C-9BB0-9897877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177E-CEB7-4CAF-AB67-7AF63291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A6BC-6837-4EB1-9685-802B5207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1BF-F7C3-45E4-A0B2-B61FF993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E8FF-51F8-4035-A849-E18435FA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F7E3-E946-48A4-83DA-3155428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850C-4487-4AC8-B057-648257C7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6B42-6EAC-4985-8D32-ACAA8935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56F5-5E82-49C9-8EF6-C793F14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7BC-5BB5-4502-92E3-4C91323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511A-A573-4C21-B51C-A2AA4BC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326F-D5F0-4CE6-AFF4-EE3E351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A3D7-ACE7-43E2-9390-193DD88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432C-DE49-4234-9EBA-2C4F274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5EBE-D9F6-4423-A4B5-0A49E79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DA36-7267-4452-B57C-32657462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FDD2-B129-4E03-B709-F78D4E1B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FF5D-DA1A-4DF3-8657-06E322E9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4FA3-F33D-4AF9-A9F8-7AF7B3A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F713-C33A-4D16-8E0E-E764101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833-9FA0-458B-A30B-10A1808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E7171-DF7D-4E7C-B6F9-1921EAA0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EB4B-EA6A-41E6-BE1D-3D8BF30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E4E9-93B5-40E6-BDE8-AC3AC90D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D2ADE-CF12-4077-AA9E-52609AF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6507-4DD7-4044-8674-897E1D4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A751-9434-4372-8C68-5324E44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60F87-2A10-4A6A-8380-D63826D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B546-7601-4DFE-AFBF-E040A76F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CF69-4726-4692-A2EE-F82A151D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6E5E-ADD6-4C56-AC46-2D27F04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D52-320B-42FD-AB13-259C7F52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B705-633D-43B5-8D65-43E5A52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F01E-A878-4ABE-BC17-DA5385B1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54C4-1E7B-42F1-AC1D-1090A7DF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452F-ACA7-48C9-9117-08ED6697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1514-4739-4A64-8AB6-5EFD740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EE0C-CF06-4EC9-9B3B-5F0EBB0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3654-52F2-4F3F-9596-6249E4D6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FDD7A-436D-4F16-AF29-58FF6DD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495B-5F09-4A58-B1E0-F1A8DBD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25981-7076-4373-AB7A-FB2D1741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855-A8CE-40DA-92CC-EC886C40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E1F4-E27A-4C56-94CE-F14185B3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708-D0E0-4266-A629-54B34B44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BE0-49A8-4ED6-A0F5-15F35F7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DA3-ED33-4EF6-9D1C-26EE7BC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95F-7E7F-4872-84AB-E61F825C655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993-541A-400D-BCA8-262188D535A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7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7B2-FF44-4A07-A76F-C9032EAF2AA5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9CDF-6FF4-42D3-B878-7836CBD2B8C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شكل حر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شكل حر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5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8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E21-95D2-4C29-B808-352CBAC5D977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عنوان فرعي 2"/>
          <p:cNvSpPr/>
          <p:nvPr/>
        </p:nvSpPr>
        <p:spPr>
          <a:xfrm>
            <a:off x="4788000" y="404640"/>
            <a:ext cx="3960720" cy="561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التحلي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الوصف الدقيق لعناصر النظام المكونة له ومميزات كل عنصر على حدى وتحديد دوره بدق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كتحليل الاحتيا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وتحليل الأهدا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وتحليل المادة الع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Lucida Sans Unicode"/>
                <a:ea typeface="PT Bold Heading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43280" y="189000"/>
            <a:ext cx="4254480" cy="616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cc0000"/>
                </a:solidFill>
                <a:latin typeface="Lucida Sans Unicode"/>
                <a:cs typeface="PT Bold Heading"/>
              </a:rPr>
              <a:t>أولاً : مرحلة التحليل :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SC_OUHOD"/>
              </a:rPr>
              <a:t>وتشمل العمليات التالية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احتياج 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أهداف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مادة العلمية .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متعلمين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بيئة التعليمية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مربع نص 3"/>
          <p:cNvSpPr/>
          <p:nvPr/>
        </p:nvSpPr>
        <p:spPr>
          <a:xfrm>
            <a:off x="468360" y="1252440"/>
            <a:ext cx="388944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ربع نص 4"/>
          <p:cNvSpPr/>
          <p:nvPr/>
        </p:nvSpPr>
        <p:spPr>
          <a:xfrm>
            <a:off x="3325680" y="64296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حل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رابط كسهم مستقيم 6"/>
          <p:cNvCxnSpPr/>
          <p:nvPr/>
        </p:nvCxnSpPr>
        <p:spPr>
          <a:xfrm flipH="1" flipV="1">
            <a:off x="2098080" y="899280"/>
            <a:ext cx="15008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مربع نص 7"/>
          <p:cNvSpPr/>
          <p:nvPr/>
        </p:nvSpPr>
        <p:spPr>
          <a:xfrm>
            <a:off x="325440" y="642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رابط كسهم مستقيم 9"/>
          <p:cNvCxnSpPr/>
          <p:nvPr/>
        </p:nvCxnSpPr>
        <p:spPr>
          <a:xfrm>
            <a:off x="1754280" y="2069640"/>
            <a:ext cx="17150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Rectangle 9"/>
          <p:cNvSpPr/>
          <p:nvPr/>
        </p:nvSpPr>
        <p:spPr>
          <a:xfrm>
            <a:off x="395280" y="2565360"/>
            <a:ext cx="3962520" cy="478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أن الترقيم هنا للتنظيم فقط ولا يعني يجب البدء بالرقم (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يليه (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وهكذا بل يمكن البدء من أية عملية مهما كان رقمها طالما ترى ذلك مناسباً وتخدم أغراضك التعليمية أكثر وضمن حدود هذه المرح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851280" y="549360"/>
            <a:ext cx="4896000" cy="54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45720" rIns="4572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00"/>
                </a:solidFill>
                <a:latin typeface="Lucida Sans Unicode"/>
                <a:cs typeface="PT Bold Heading"/>
              </a:rPr>
              <a:t>تحليل الاحتياج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ما فائدة تحليل الاحتيا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يقود تحليل الاحتياج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إلى </a:t>
            </a:r>
            <a:r>
              <a:rPr b="0" lang="ar-SA" sz="32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تحديد الاحتياج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من ثم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تعريف المشكل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042920" y="765000"/>
            <a:ext cx="180036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حليل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 rot="16200000">
            <a:off x="1080000" y="1808640"/>
            <a:ext cx="1584360" cy="7920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42920" y="2997360"/>
            <a:ext cx="180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حديد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 rot="16200000">
            <a:off x="1080000" y="4040640"/>
            <a:ext cx="1584360" cy="7920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042920" y="5229360"/>
            <a:ext cx="180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عريف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3492360" y="189000"/>
            <a:ext cx="539928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كيف يكون تحديد الاحتياج</a:t>
            </a:r>
            <a:r>
              <a:rPr b="0" lang="ar-SA" sz="40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796000" y="1484280"/>
            <a:ext cx="244944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صف الوضع الراه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6200000">
            <a:off x="6427080" y="2223360"/>
            <a:ext cx="1008000" cy="828720"/>
          </a:xfrm>
          <a:prstGeom prst="leftArrow">
            <a:avLst>
              <a:gd name="adj1" fmla="val 50000"/>
              <a:gd name="adj2" fmla="val 3040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ث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6200000">
            <a:off x="6535080" y="3951720"/>
            <a:ext cx="934920" cy="755640"/>
          </a:xfrm>
          <a:prstGeom prst="leftArrow">
            <a:avLst>
              <a:gd name="adj1" fmla="val 50000"/>
              <a:gd name="adj2" fmla="val 3093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5867280" y="4797360"/>
            <a:ext cx="2376720" cy="194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ه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رق ب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وضع الراه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الوضع المرغ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5796000" y="3141720"/>
            <a:ext cx="244944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صف الوضع المرغ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324000" y="765000"/>
            <a:ext cx="2842920" cy="5042160"/>
          </a:xfrm>
          <a:prstGeom prst="wedgeRoundRectCallout">
            <a:avLst>
              <a:gd name="adj1" fmla="val -59995"/>
              <a:gd name="adj2" fmla="val -61745"/>
              <a:gd name="adj3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إذ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الفرق بين الوضع الراهن والوضع المرغ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هو ما نسميه بالاحتيا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179280" y="476280"/>
            <a:ext cx="878544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Arial"/>
                <a:cs typeface="PT Bold Heading"/>
              </a:rPr>
              <a:t>مثال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دد الاحتياج إذا كان الوضع الراهن والوضع المرغوب ك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راهن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مرغوب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79280" y="3284640"/>
            <a:ext cx="878544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إتقان طلاب الصف الثالث 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24000" y="189000"/>
            <a:ext cx="85676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كيف يمكن أن نصل إلى تعريف للمشكلة</a:t>
            </a:r>
            <a:r>
              <a:rPr b="0" lang="ar-SA" sz="40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234200" y="1555920"/>
            <a:ext cx="158580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بعد تحدي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6012000" y="1879560"/>
            <a:ext cx="1153800" cy="828720"/>
          </a:xfrm>
          <a:prstGeom prst="leftArrow">
            <a:avLst>
              <a:gd name="adj1" fmla="val 50000"/>
              <a:gd name="adj2" fmla="val 3480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نفكر في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771640" y="1901880"/>
            <a:ext cx="1494000" cy="755640"/>
          </a:xfrm>
          <a:prstGeom prst="leftArrow">
            <a:avLst>
              <a:gd name="adj1" fmla="val 50000"/>
              <a:gd name="adj2" fmla="val 4942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هذا 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24000" y="1484280"/>
            <a:ext cx="2376360" cy="194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تعريف المشكلة ه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وصول إلى 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لمعالجة 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324320" y="1484280"/>
            <a:ext cx="1657440" cy="172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ساليب وطرق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معالج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ذلك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2843280" y="3789360"/>
            <a:ext cx="5724360" cy="2374920"/>
          </a:xfrm>
          <a:prstGeom prst="wedgeRoundRectCallout">
            <a:avLst>
              <a:gd name="adj1" fmla="val 59319"/>
              <a:gd name="adj2" fmla="val -60962"/>
              <a:gd name="adj3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إذ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تعريف المشكلة لا يعني الاحتي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وإنما الوصول إلى حل لمعالجة ذلك الاحتي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179280" y="476280"/>
            <a:ext cx="878544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Arial"/>
                <a:cs typeface="PT Bold Heading"/>
              </a:rPr>
              <a:t>مثال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رف المشكلة إذا كان الوضع الراهن والوضع المرغوب ك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راهن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مرغوب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79280" y="3284640"/>
            <a:ext cx="8785440" cy="20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إتقان طلاب الصف الثالث 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تعريف المشكلة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استخدام أساليب وطرق جديدة لإتقان طلاب الصف الثال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59:23Z</dcterms:created>
  <dc:creator>work</dc:creator>
  <dc:description/>
  <dc:language>en-US</dc:language>
  <cp:lastModifiedBy>user2009</cp:lastModifiedBy>
  <dcterms:modified xsi:type="dcterms:W3CDTF">2009-10-05T05:57:42Z</dcterms:modified>
  <cp:revision>60</cp:revision>
  <dc:subject/>
  <dc:title>الشريحة 1</dc:title>
</cp:coreProperties>
</file>